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40166-0830-4EC4-8397-D6F8F00237F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27E0-5167-46C8-A58A-89A662BCC85C}"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numental size of Hammurabi's stele dramatized the king's power. The graphic on the stone communicated Hammurabi's message that the gods, the ultimate source of justice, provide legitimacy for his authority. A second reading of the meaning of this stone may be found in the possibility that the image communicated to viewers that Hammurabi's position was one of an intermediary between the human world and the world of the god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C77F7-ED6C-4321-B797-F91F75BCF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9363F-73B4-48AE-A050-54237E6C7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DD3ED-049A-4E30-B879-47C527443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12591-4320-4BE9-B3EB-CC3881F8E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CF4B98-9813-4F9E-ADB8-5501F354A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4A8E7-1A91-426E-BC03-33C92A2A2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B6602-F50C-4B8A-A62E-E5381855E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23FD0-DA8E-4626-B699-723928E04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8F310-04AD-4C12-A507-884458A52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61B4F-356C-4EAB-AA4E-C8CB03128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6D78E-81D7-4A12-AB07-F65A6510F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BD81B-2A75-46FB-8D65-4D332D438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E8165-1D44-4E6D-8B7F-066660A69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EC1BA-1AFF-4A22-BAAD-6C394E2EE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83A83-0F62-4EB0-9777-232C52E84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AB9FFD-AA8C-4D09-A515-C844899D0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913B3-C605-4197-B1F9-CA2C275A59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E3384-E43E-4503-99D3-C41186112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C1CAA-FA8B-4685-8793-1BBEDF5CD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63690-DA62-4988-870F-66C61D27F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A030F-B7E8-4028-B705-F953EEC02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1BD58-FB3D-43C1-942B-0F41CC1EA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A40DB-2ED1-471F-A33B-29D82BD06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3D904-DABC-413F-AF3C-C34C3F124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720000"/>
                </a:gs>
                <a:gs pos="100000">
                  <a:srgbClr val="6b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D1A8-9863-4D2C-90E5-E9D6B3A26DD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720000"/>
                </a:gs>
                <a:gs pos="100000">
                  <a:srgbClr val="61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86D9-08D2-4800-8192-1DC70336046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youtube.com/watch?v=oDALXORbtR4"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cc"/>
                </a:solidFill>
                <a:latin typeface="Tahoma"/>
              </a:rPr>
              <a:t>Early Laws &amp; Governments</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Tahoma"/>
              </a:rPr>
              <a:t>Turning Points in History</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cc66"/>
                </a:solidFill>
                <a:uFillTx/>
                <a:latin typeface="Tahoma"/>
                <a:hlinkClick r:id="rId1"/>
              </a:rPr>
              <a:t>Hammurabi's Cod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9" name="Picture 5" descr="jpg_law_justice_003"/>
          <p:cNvPicPr/>
          <p:nvPr/>
        </p:nvPicPr>
        <p:blipFill>
          <a:blip r:embed="rId2"/>
          <a:stretch/>
        </p:blipFill>
        <p:spPr>
          <a:xfrm>
            <a:off x="4427640" y="1557360"/>
            <a:ext cx="4335480" cy="50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60" y="1341360"/>
            <a:ext cx="4211640" cy="5183280"/>
          </a:xfrm>
          <a:prstGeom prst="rect">
            <a:avLst/>
          </a:prstGeom>
          <a:noFill/>
          <a:ln w="0">
            <a:noFill/>
          </a:ln>
        </p:spPr>
        <p:txBody>
          <a:bodyPr anchor="t">
            <a:normAutofit fontScale="99000"/>
          </a:bodyPr>
          <a:p>
            <a:pPr marL="339480" indent="-33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y the early fourth millennium B.C., the population of the Tigris - Euphrates increased; and city-states arose.</a:t>
            </a:r>
            <a:endParaRPr b="0" lang="en-US" sz="2400" spc="-1" strike="noStrike">
              <a:solidFill>
                <a:srgbClr val="ffffff"/>
              </a:solidFill>
              <a:latin typeface="Tahoma"/>
            </a:endParaRPr>
          </a:p>
          <a:p>
            <a:pPr marL="339480" indent="-33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By 2000 BC the cities of Sumer had grown so large that some like Ur, the capital city, had populations more than 200,000 persons.</a:t>
            </a:r>
            <a:endParaRPr b="0" lang="en-US" sz="2400" spc="-1" strike="noStrike">
              <a:solidFill>
                <a:srgbClr val="ffffff"/>
              </a:solidFill>
              <a:latin typeface="Tahoma"/>
            </a:endParaRPr>
          </a:p>
          <a:p>
            <a:pPr marL="339480" indent="-33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Hammurabi, the Priest King</a:t>
            </a:r>
            <a:r>
              <a:rPr b="0" lang="en-GB" sz="2400" spc="-1" strike="noStrike">
                <a:solidFill>
                  <a:srgbClr val="ffffff"/>
                </a:solidFill>
                <a:latin typeface="Tahoma"/>
              </a:rPr>
              <a:t> Hammurabi (ca. 1792 - 1750 BC) united all of Mesopotamia under his forty-three year reign of Babylon. </a:t>
            </a: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1" name="Picture 5" descr="File:Hammurabi's Babylonia 1.svg"/>
          <p:cNvPicPr/>
          <p:nvPr/>
        </p:nvPicPr>
        <p:blipFill>
          <a:blip r:embed="rId1"/>
          <a:stretch/>
        </p:blipFill>
        <p:spPr>
          <a:xfrm>
            <a:off x="4211640" y="1197000"/>
            <a:ext cx="4788000" cy="5429160"/>
          </a:xfrm>
          <a:prstGeom prst="rect">
            <a:avLst/>
          </a:prstGeom>
          <a:ln w="0">
            <a:noFill/>
          </a:ln>
        </p:spPr>
      </p:pic>
      <p:sp>
        <p:nvSpPr>
          <p:cNvPr id="102"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Tahoma"/>
              </a:rPr>
              <a:t>Mesopotamia</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95640" y="0"/>
            <a:ext cx="483552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Tahoma"/>
              </a:rPr>
              <a:t>Hammurabi’s Code</a:t>
            </a:r>
            <a:endParaRPr b="0" lang="en-US" sz="4400" spc="-1" strike="noStrike">
              <a:solidFill>
                <a:srgbClr val="ffffcc"/>
              </a:solidFill>
              <a:latin typeface="Tahoma"/>
            </a:endParaRPr>
          </a:p>
        </p:txBody>
      </p:sp>
      <p:sp>
        <p:nvSpPr>
          <p:cNvPr id="104" name="PlaceHolder 2"/>
          <p:cNvSpPr>
            <a:spLocks noGrp="1"/>
          </p:cNvSpPr>
          <p:nvPr>
            <p:ph/>
          </p:nvPr>
        </p:nvSpPr>
        <p:spPr>
          <a:xfrm>
            <a:off x="178920" y="836640"/>
            <a:ext cx="4535640" cy="56880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though Hammurabi's Code is not the first code of laws (the first records date four centuries earlier), it is the best preserved legal documen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1901 Egyptologist Gustave Jequier, found the stele containing the Code of Hammurabi in what is now Iran (ancient Susa) It is currently on display at the Louvre Museum.</a:t>
            </a:r>
            <a:r>
              <a:rPr b="0" lang="en-GB"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Made of basalt (a hard black volcanic rock), 7ft tall &amp; 6ft around base</a:t>
            </a:r>
            <a:endParaRPr b="0" lang="en-US" sz="2400" spc="-1" strike="noStrike">
              <a:solidFill>
                <a:srgbClr val="ffffff"/>
              </a:solidFill>
              <a:latin typeface="Tahoma"/>
            </a:endParaRPr>
          </a:p>
        </p:txBody>
      </p:sp>
      <p:pic>
        <p:nvPicPr>
          <p:cNvPr id="105" name="Picture 7" descr="hammur"/>
          <p:cNvPicPr/>
          <p:nvPr/>
        </p:nvPicPr>
        <p:blipFill>
          <a:blip r:embed="rId1"/>
          <a:stretch/>
        </p:blipFill>
        <p:spPr>
          <a:xfrm>
            <a:off x="5364000" y="1341360"/>
            <a:ext cx="3286440" cy="496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50920" y="620640"/>
            <a:ext cx="4402080" cy="5259600"/>
          </a:xfrm>
          <a:prstGeom prst="rect">
            <a:avLst/>
          </a:prstGeom>
          <a:noFill/>
          <a:ln w="0">
            <a:noFill/>
          </a:ln>
        </p:spPr>
        <p:txBody>
          <a:bodyPr anchor="t">
            <a:normAutofit fontScale="88000"/>
          </a:bodyPr>
          <a:p>
            <a:pPr marL="301680" indent="-3016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Reflects social structure of Babylon during Hammurabi's rule.</a:t>
            </a:r>
            <a:endParaRPr b="0" lang="en-US" sz="2400" spc="-1" strike="noStrike">
              <a:solidFill>
                <a:srgbClr val="ffffff"/>
              </a:solidFill>
              <a:latin typeface="Tahoma"/>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ed a new concept to laws of city-state of Sumer — that of revenge instead of just punishment. For example, under Sumerian law, the punishment for crimes was often a fine</a:t>
            </a:r>
            <a:endParaRPr b="0" lang="en-US" sz="2400" spc="-1" strike="noStrike">
              <a:solidFill>
                <a:srgbClr val="ffffff"/>
              </a:solidFill>
              <a:latin typeface="Tahoma"/>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ammurabi had his laws posted throughout Babylonia. They were written on stone slabs and placed in prominent places for the people to see. There were 282 laws as far as we know</a:t>
            </a:r>
            <a:endParaRPr b="0" lang="en-US" sz="2400" spc="-1" strike="noStrike">
              <a:solidFill>
                <a:srgbClr val="ffffff"/>
              </a:solidFill>
              <a:latin typeface="Tahoma"/>
            </a:endParaRPr>
          </a:p>
        </p:txBody>
      </p:sp>
      <p:pic>
        <p:nvPicPr>
          <p:cNvPr id="107" name="Picture 4" descr="File:CodeOfHammurabi.jpg"/>
          <p:cNvPicPr/>
          <p:nvPr/>
        </p:nvPicPr>
        <p:blipFill>
          <a:blip r:embed="rId1"/>
          <a:stretch/>
        </p:blipFill>
        <p:spPr>
          <a:xfrm>
            <a:off x="5508720" y="1197000"/>
            <a:ext cx="3119400" cy="5257800"/>
          </a:xfrm>
          <a:prstGeom prst="rect">
            <a:avLst/>
          </a:prstGeom>
          <a:ln w="0">
            <a:noFill/>
          </a:ln>
        </p:spPr>
      </p:pic>
      <p:sp>
        <p:nvSpPr>
          <p:cNvPr id="108" name="PlaceHolder 2"/>
          <p:cNvSpPr>
            <a:spLocks noGrp="1"/>
          </p:cNvSpPr>
          <p:nvPr>
            <p:ph type="title"/>
          </p:nvPr>
        </p:nvSpPr>
        <p:spPr>
          <a:xfrm>
            <a:off x="4308480" y="115920"/>
            <a:ext cx="483552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Tahoma"/>
              </a:rPr>
              <a:t>Hammurabi’s Cod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372000" y="274320"/>
            <a:ext cx="231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cc"/>
                </a:solidFill>
                <a:latin typeface="Tahoma"/>
              </a:rPr>
              <a:t>The Stele</a:t>
            </a:r>
            <a:endParaRPr b="0" lang="en-US" sz="4000" spc="-1" strike="noStrike">
              <a:solidFill>
                <a:srgbClr val="ffffcc"/>
              </a:solidFill>
              <a:latin typeface="Tahoma"/>
            </a:endParaRPr>
          </a:p>
        </p:txBody>
      </p:sp>
      <p:pic>
        <p:nvPicPr>
          <p:cNvPr id="110" name="Picture 4" descr="hammur"/>
          <p:cNvPicPr/>
          <p:nvPr/>
        </p:nvPicPr>
        <p:blipFill>
          <a:blip r:embed="rId1"/>
          <a:stretch/>
        </p:blipFill>
        <p:spPr>
          <a:xfrm>
            <a:off x="0" y="0"/>
            <a:ext cx="5977080" cy="6858000"/>
          </a:xfrm>
          <a:prstGeom prst="rect">
            <a:avLst/>
          </a:prstGeom>
          <a:ln w="0">
            <a:noFill/>
          </a:ln>
        </p:spPr>
      </p:pic>
      <p:sp>
        <p:nvSpPr>
          <p:cNvPr id="111" name="Rectangle 5"/>
          <p:cNvSpPr/>
          <p:nvPr/>
        </p:nvSpPr>
        <p:spPr>
          <a:xfrm>
            <a:off x="6227640" y="1600200"/>
            <a:ext cx="245916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se the Inference Diagram to analyse the Stele as a source</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Ask Questions</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cc"/>
                </a:solidFill>
                <a:latin typeface="Tahoma"/>
              </a:rPr>
              <a:t>Why did Hammurabi create his code?</a:t>
            </a:r>
            <a:endParaRPr b="0" lang="en-US" sz="40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eograph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ity-State structu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ad the Epilogue to the Code and highlight any words or phrases that indicate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u="sng">
                <a:solidFill>
                  <a:srgbClr val="ffffff"/>
                </a:solidFill>
                <a:uFillTx/>
                <a:latin typeface="Tahoma"/>
              </a:rPr>
              <a:t>what Hammurabi wanted</a:t>
            </a:r>
            <a:r>
              <a:rPr b="0" lang="en-GB"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can Hammurabi’s Code tell us about Babylonian Society?</a:t>
            </a:r>
            <a:endParaRPr b="0" lang="en-US" sz="4400" spc="-1" strike="noStrike">
              <a:solidFill>
                <a:srgbClr val="ffffcc"/>
              </a:solidFill>
              <a:latin typeface="Tahoma"/>
            </a:endParaRPr>
          </a:p>
        </p:txBody>
      </p:sp>
      <p:sp>
        <p:nvSpPr>
          <p:cNvPr id="115" name=""/>
          <p:cNvSpPr txBox="1"/>
          <p:nvPr/>
        </p:nvSpPr>
        <p:spPr>
          <a:xfrm>
            <a:off x="457200" y="2057400"/>
            <a:ext cx="8229600" cy="40384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y the laws worksheet and then record what they tell us about religion, marriage, work and any other aspects of society you not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16:12:09Z</dcterms:created>
  <dc:creator>Henrietta</dc:creator>
  <dc:description/>
  <dc:language>en-US</dc:language>
  <cp:lastModifiedBy>IT User</cp:lastModifiedBy>
  <dcterms:modified xsi:type="dcterms:W3CDTF">2010-10-25T15:28:33Z</dcterms:modified>
  <cp:revision>16</cp:revision>
  <dc:subject/>
  <dc:title>Slide 1</dc:title>
</cp:coreProperties>
</file>